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F4256-537F-459C-8016-928665BBC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0008-E330-4790-BA0D-ADED1B7C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8728F-C613-4A31-A66E-1B27B5F74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4BB3E-5D48-4611-9C73-89C0E99D9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2095A-0658-4FC8-B56E-73A471F8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401C6-97CC-4CFB-BBC9-F5446853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B703-712C-4E4C-B99F-FC908A696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AF68D-AD70-49A4-96E0-D237BCD6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D501-8A95-4889-80C1-EBCA28B4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AE7E-0289-41A6-9FA1-22614C53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1A31-B7ED-4686-8822-72B85F6A9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B6D1-491F-492E-A2D6-D3502C63A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3859-0B1F-423F-83B4-674BF18908F6}"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764640"/>
            <a:ext cx="7772400" cy="453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nvironmental Impacts Of Population Growth</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Happens Next?</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the population of the world continues to grow at an ever increasing rate, the pressure on natural resources such as food and fuel also increase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1798 Thomas Malthus produced an interesting theory on how population and food resources might continu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aid that as the population continued to grow at a geometric rate, it would slowly catch up the food supply, which only grew arithmetically.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eant that at some point the food supply would not be enough to support the population and so the population would have to be curbed in some way.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lthus theorised that this would either be by policies to reduce the number of children being born, or by war, famine and disea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www.fordham.edu/halsall/mod/lect/malthus.gif"/>
          <p:cNvPicPr/>
          <p:nvPr/>
        </p:nvPicPr>
        <p:blipFill>
          <a:blip r:embed="rId1"/>
          <a:stretch/>
        </p:blipFill>
        <p:spPr>
          <a:xfrm>
            <a:off x="0" y="189000"/>
            <a:ext cx="9144000" cy="63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ality</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65 Esther Boserup put forward a different theory claiming that humans will develop new technologies to increase food production whenever they need 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because humans are the most resourceful animals on the planet, and so have developed new technologies and methods to cope with the increasing resource demands of a growing pop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oserup’s Basic Theory</a:t>
            </a:r>
            <a:endParaRPr b="0" lang="en-US" sz="4400" spc="-1" strike="noStrike">
              <a:solidFill>
                <a:srgbClr val="000000"/>
              </a:solidFill>
              <a:latin typeface="Calibri"/>
            </a:endParaRPr>
          </a:p>
        </p:txBody>
      </p:sp>
      <p:pic>
        <p:nvPicPr>
          <p:cNvPr id="48" name="Picture 2" descr="http://upload.wikimedia.org/wikipedia/en/7/74/Graph_boserup.JPG"/>
          <p:cNvPicPr/>
          <p:nvPr/>
        </p:nvPicPr>
        <p:blipFill>
          <a:blip r:embed="rId1"/>
          <a:stretch/>
        </p:blipFill>
        <p:spPr>
          <a:xfrm>
            <a:off x="468360" y="0"/>
            <a:ext cx="8244000" cy="607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echnological Advancements</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gricultural Revolution, which included breeding cattle and sheep, which produced more milk, meat and wool.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lso developed new technologies to evenly sow seeds, plough more efficiently and use their land more effective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reen Revolutio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ntroduced high yield seeds to developing world areas, such as Indi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eds could also be developed to cope with the drier conditions that they might experience in some of these are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echnological Advancement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introduction of irrigation systems into developing countries.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oth large scale and small scale projects have been used to increase irrigation of crops in countries in Africa and Asia.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ells and canals are now commonly built to help communities to make the best use of their lan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tter technology allowing more intensive farm yields.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ster growing plants varieties have allowed farmers to have two harvests a year from a single fiel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effective fertilisers have meant that soil has been made more fertil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Genetically Modified crops could also prove to be one of these advancements, although they are in only the early stages of development at the momen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Rapid Population Growth</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destruction of large areas of rainforest, for use as farming lan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has particularly occurred in Brazil and in central Africa.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impacts of destruction like this, can not be easily calculated as it may well add the global warming problem.</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rming areas are being put under increasing pressure, and are being over-used, either for crops or cattle.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is leading to a reduction in the nutrients available in the soil and to soil erosion, both of which mean the land is less likely to produce enough foo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increasing use of technologies such as fertilisers is causing problems of water pollution, which may endanger the lives of people who use the rivers for drinking water and for washing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5:11:33Z</dcterms:created>
  <dc:creator>Dell_02</dc:creator>
  <dc:description/>
  <dc:language>en-US</dc:language>
  <cp:lastModifiedBy>Dell_02</cp:lastModifiedBy>
  <dcterms:modified xsi:type="dcterms:W3CDTF">2011-01-25T05:22:03Z</dcterms:modified>
  <cp:revision>2</cp:revision>
  <dc:subject/>
  <dc:title>Environmental Impacts Of Population Growth</dc:title>
</cp:coreProperties>
</file>